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D47-D86D-415F-9E3C-AAB2C929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97D-836F-47A6-9BAF-3BAA386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973-C97A-44CC-AB06-045208C2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F55-B5EF-4FED-A4AA-7433C59F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A33-8B66-4271-8797-46219E5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D47-4C02-4011-9F6E-B7F4D3D3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B5C-C4C1-425D-A899-E5EA05BB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CC6-2CB2-4F0D-AB71-6329FA52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050-0877-4CCE-AAD7-065E2C9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DDD-AA80-40D5-9F9D-FBFAAFA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A33-63A3-469E-A2ED-427837B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80A-4020-458D-9897-6B23E0A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023-6FC6-48F7-B6D4-94F4F9FE9E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6500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2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طنا ربِّ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أْلأَتْ كُلُّ هَضْبَةٍ فَوْقَ لُبْنَان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ُصَلِّي، وَهَامَ كُلُّ فَض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سَامَى مَجَامِرا جَبَلُ الأَطْياب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َافْتَحْ، يَا رَبِّ، بَابَ السَّم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 رُدَّ الأَهْوَالَ أَقْبَلْنَ يَضْرِبْن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َجُدْ لاتَ مَا خَلاكَ يَجُود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، جَلَّتْ يُمْنَاكَ لا تَعْرِفُ القَبْض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َمَنْ مِنْكَ، رَبِّ لا يَسْتَزِيدُ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َمَا غَـبَّتِ الْحَسَاسِينُ مِنْ م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رَنَتْ حُلْوَةً إِلَيْكَ بشُكْر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عَالَتْ إِلَيْكَ فِي لَفْتَةِ الصُّبْح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َلاةً مِنْ زَقْزَقَاتٍ وَزَهْرِ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مِّعَتْ، رَبِّيَ، الْخَلِيقَةُ فِي صَوْت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نَاجِي، وَسَبَّحَتْ تَتَغَنّ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َمَلَّتْ، فِي رِفْعَةِ الرَّأْسِ وَالطَّرْف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ثـُوّاً مِنْ رُكْبَتَيْنِ وَوَهْ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أَنَا أَسْتَجِيرُ بالرَّحْمَةِ الأُول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نُورِ الأَنْوَارِ، بالْيُنْب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تَقَبَّلْ، رَبِّي، قَرَابينَ حُبّ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رَجَاءٍ، وَذِلَّةٍ، وَدُم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رأَّفْ يَا أيُّهَا السَّعَةُ الكُبْر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َرَأَّفْ باللاّئِذِ الْمُحْتَاج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انْصُرِ الْقَابسِينَ مِنْ فَيْضِكَ النُّور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ِلَى الْكَوْكَبِ الضَّلُولِ الدَّاجِ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9:04:28Z</dcterms:created>
  <dc:creator>Charbel Azar</dc:creator>
  <dc:description/>
  <dc:language>en-US</dc:language>
  <cp:lastModifiedBy>ف</cp:lastModifiedBy>
  <dcterms:modified xsi:type="dcterms:W3CDTF">2006-09-13T18:08:42Z</dcterms:modified>
  <cp:revision>10</cp:revision>
  <dc:subject/>
  <dc:title>Slide 1</dc:title>
</cp:coreProperties>
</file>